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F6B-B6AC-4D6F-B4DA-DF00334F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A4B-C797-47E7-8FAE-6E2741A2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F40-04DB-405D-94A0-862EAFE8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0E0-E319-4551-95CA-8528765B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F3B-4857-4D07-A230-E44E7E47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7C6-BF3A-4FB3-A6F0-62D3E995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F48-EDAF-4634-A683-9029F2A1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016-419A-47E3-B229-C0D8170E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F1D-3CBD-4C67-9CA7-5411BB14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DDF-1444-44B3-A8DC-D47D8F7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B64-98A9-4129-81AA-47446DBB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734-DE96-429C-936F-ECDB8D5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0054-69B0-477B-AEFD-92DB78E73A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amily Life would have been like in Salem, Massachusetts in 16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es had a rough time providing for their children and even the adults at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de their own clo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anted their own food, such as vege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raised their own meat al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787400" cy="17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were under very strict ru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considered sinning to express any emotion such as sadness or a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ing was rare, and on the Sabbath a sin! Also, looking at yourself in a mirror is a s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ys had a few advantages that girls did n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uld fish and hunt, and the girls had to stay home and learn to cook and clean with the wo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27800" y="4091040"/>
            <a:ext cx="1388880" cy="184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hildren learned to read and wr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children had more, but almost all of them only had a Bible as far as books 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1855800" cy="122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alem Witchcraft Trials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clusion, the Salem Witchcraft Trials was a hard time for many people. Kids especially!! Consider yourself lucky, for if you were put to trial would you be guilt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innoc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4:17:26Z</dcterms:created>
  <dc:creator>GACS</dc:creator>
  <dc:description/>
  <dc:language>en-US</dc:language>
  <cp:lastModifiedBy>GACS</cp:lastModifiedBy>
  <dcterms:modified xsi:type="dcterms:W3CDTF">2008-10-10T14:38:33Z</dcterms:modified>
  <cp:revision>2</cp:revision>
  <dc:subject/>
  <dc:title>Salem Witchcraft Trials  </dc:title>
</cp:coreProperties>
</file>